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E7E-F195-40F2-A0EF-874A1B38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52B-090D-468D-ADA1-6E28D1C8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1EA-6CA7-4604-A2D9-7574B902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E5A-CDBC-4A10-9086-4B627C3C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FC1-1DAA-49E7-94E4-90C4D2DC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EE9-8519-4FE3-94E0-BF22592B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3F6-1437-41E8-8B47-42FA6987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36D-7CEE-4E42-B4CB-1D6FA1BA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47A-4C0C-49FA-B653-92D28E3C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C3C-3D78-43FB-A785-A041F292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8E5-8845-4BD8-B3D5-1EFD66E7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847-8E1C-43EB-85B3-9503516C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5218-02C6-43CA-A2D8-0ABD32909CB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Podpora MPSV v oblasti plánování sociálních služeb a sociální práce 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28.11.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73771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Národní strategie rozvoje soc. služeb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Strategický dokument pro oblast soc. služeb na období 2014 –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Cíl: nastavit další zaměření sociálních služeb, vymezit žádoucí postup ke zlepšení fungování sociálních služeb na systémové úrovni a vytvořit vhodnější prostředí ke „kultivaci“ systému sociálních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Priority rozvoje sociálních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Zákon č. 2/1969 Sb., o zřízení ministerstev a jiných ústředních orgánů ČR - uzákonění povinnosti zpracovávat koncepce rozvoje svěřených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Pracovní skupina (PS), analýza koncepčních/strategických dokumentů se vztahem k soc. službám, konzultační a připomínk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Obsah: Úvod - Koncepční východiska – Analytická část – Strategické oblasti rozvoje + Akční plán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Projekt „Podpora procesů v soc. službách“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Hlavní cíl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: podpořit dostupnost sociálních služeb vůči jejich uživatelům prostřednictvím efektivního a transparentního prostředí řízení, distribuce a monitoringu finančních prostředků     z veřejných rozpočtů do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Aktivita č. 5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: </a:t>
            </a:r>
            <a:r>
              <a:rPr b="0" lang="sv-SE" sz="2000" spc="-1" strike="noStrike">
                <a:solidFill>
                  <a:srgbClr val="2d2d8a"/>
                </a:solidFill>
                <a:latin typeface="Arial"/>
              </a:rPr>
              <a:t>Plánování dostupnosti soc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iálních</a:t>
            </a:r>
            <a:r>
              <a:rPr b="0" lang="sv-SE" sz="2000" spc="-1" strike="noStrike">
                <a:solidFill>
                  <a:srgbClr val="2d2d8a"/>
                </a:solidFill>
                <a:latin typeface="Arial"/>
              </a:rPr>
              <a:t> služeb a efektivní distribuce 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finančních </a:t>
            </a:r>
            <a:r>
              <a:rPr b="0" lang="sv-SE" sz="2000" spc="-1" strike="noStrike">
                <a:solidFill>
                  <a:srgbClr val="2d2d8a"/>
                </a:solidFill>
                <a:latin typeface="Arial"/>
              </a:rPr>
              <a:t>prostředků na jejich zajišt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Národní strategie rozvoje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Kritéria kvality plánování sociálních služeb na krajské úrovni a metodika „síťování“ soc.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Další témata ve vztahu k plánování      rozvoje soc. služ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Identifikace a vyhodnocování problematických soc. jev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Definice sociálních potřeb vyplývající z identifikovaných soc. jev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Systém finanční podpory poskytování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Druhy/karty sociálních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Registrace poskytovatelů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Plánování sociálních služeb v rámci OP LZZ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Globální gran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Výzvy 22 + 45 Podpora vzdělávání a procesů v soc. služb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Výzvy 65, 78, 97 Podpora procesů plánování soc. služeb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16360" y="1773360"/>
          <a:ext cx="5256000" cy="4179600"/>
        </p:xfrm>
        <a:graphic>
          <a:graphicData uri="http://schemas.openxmlformats.org/drawingml/2006/table">
            <a:tbl>
              <a:tblPr/>
              <a:tblGrid>
                <a:gridCol w="2031840"/>
                <a:gridCol w="1712880"/>
                <a:gridCol w="1511280"/>
              </a:tblGrid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Kra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Počet projektů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Podpora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Jihoče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25 828 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Jihomorav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9 112 7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Královéhradec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2 796 1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Moravskoslez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6 511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Pardubic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 195 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Olomouc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1 247 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Plzeňs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 830 5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Středočes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28 597 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Ústec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3 825 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Vysoči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5 686 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Zlíns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6 519 9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Liberec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 576 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Operační program Zaměstnanost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765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25800" indent="-32580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5 prioritních os – </a:t>
            </a: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prioritní osa 2 „Sociální začleňování a boj s chudobou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Investiční priorita 2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 – Zlepšování přístupu k dostupným, udržitelným a vysoce kvalitním službám, včetně zdravotnictví a sociálních služeb obecného záj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Popis typů a příkladů financovaných aktiv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d2d8a"/>
                </a:solidFill>
                <a:latin typeface="Arial"/>
              </a:rPr>
              <a:t>Podpora procesu střednědobého plánování služeb (zavádění, realizace a vyhodnocování procesu) s důrazem na využití principu partnerství včetně tvorby SPRSS (přednostně pro správní obvod  obcí s rozšířenou působností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d2d8a"/>
                </a:solidFill>
                <a:latin typeface="Arial"/>
              </a:rPr>
              <a:t>Vzdělávání soc. pracovníků ve službách a ve veř. správě např. v oblastech rozvoje schopnosti posoudit soc. situaci klienta, case managementu, multidisciplinárního plánování podpory a pomoci,  síťování v rámci konkrétního území, rozpoznání rizik 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d2d8a"/>
                </a:solidFill>
                <a:latin typeface="Arial"/>
              </a:rPr>
              <a:t>Vzdělávání soc. pracovníků a dalších pracovníků soc. služeb ve způsobech zmocňování (empowerment) uživatelů ústavních služeb, formách a nástrojích zapojování uživatelů do rozhod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lastní aktivity MPSV v oblasti podpory sociální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413000"/>
            <a:ext cx="8229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Pro rok 2014 – individuální projekt pro podporu vzdělávání v oblasti sociální práce pro sociální pracovníky ob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Příprava individuálního projektu s cílem podpory aktivit sociální práce v obcích s rozšířenou působ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Příprava dotačního titulu pro obce v oblasti podpory sociální práce spojeného s působností obce s rozšířenou působ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Spolupráce s vydavateli odborných i populárních periodik v oblasti sociální práce – příklady dobré praxe – namísto vydávání desítek metodik či doporučených postup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Suda Radek PhDr. (MPSV)</cp:lastModifiedBy>
  <dcterms:modified xsi:type="dcterms:W3CDTF">2013-11-25T15:28:55Z</dcterms:modified>
  <cp:revision>46</cp:revision>
  <dc:subject/>
  <dc:title>Snímek 1</dc:title>
</cp:coreProperties>
</file>